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87B9-9467-493B-8229-414B205EB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CE3D-08A6-421E-8978-420D373B9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4689-1153-4668-8C47-A28527925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202F-513C-4B6F-94AE-FBE17D14C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4130-9622-44AB-BD76-47EB2CF62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137A-4C59-4F0F-AB85-537F540AA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13A9-6654-4ECF-9ED2-81267B98A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D388-F0FB-468C-8216-B01EC7CAD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2323-DEEF-4460-9062-4C49E25A1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C7D0-15AD-4265-8C50-ED425231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4760-2F3F-43A5-B8EF-A71496DD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61C1-CAEA-4D46-B02F-F5DD7A98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AB171-1E8E-4AA6-A52C-DC90EDE1995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ward Park Environmental &amp; Audubon Center</a:t>
            </a:r>
            <a:br>
              <a:rPr sz="4400"/>
            </a:b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6019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hley Mey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0" y="3962520"/>
            <a:ext cx="4572000" cy="13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Mission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o inspire exploration, discovery, and stewardship of the natural world through programs that promote healthy, sustainable communitie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486400" y="2057400"/>
            <a:ext cx="26049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Seward Park Environmental &amp; Audubon Center offer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2438280"/>
            <a:ext cx="7162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ｷ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y/evening lectures, lessons, and programs ranging from one hour to all da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pics include birding, gardening, tales and trai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t: many are FREE or range $2.00- 5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3733920"/>
            <a:ext cx="1981080" cy="18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eck out Audubon magazine!</a:t>
            </a:r>
            <a:br>
              <a:rPr sz="4400"/>
            </a:b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657240" y="19810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ers, subscribe to Audubon magazine and read articles with your students! This is an easy way to explore nature without leaving your classroo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2697120" cy="3676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572000" y="58672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.audubonmagazine.o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at else does Seward Park offer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ｷ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00 acres of beautiful forest land that is home old growth forest and eagles' n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ｷ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les of hiking tr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ｷ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4 mile bike and walking pa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ｷ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mphithea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ｷ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tive plant gar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ｷ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ac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se activities are FREE and a great way to get your students out in natur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248520" y="2819520"/>
            <a:ext cx="253980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7T02:19:41Z</dcterms:created>
  <dc:creator>Ashley Meyer</dc:creator>
  <dc:description/>
  <dc:language>en-US</dc:language>
  <cp:lastModifiedBy>Ashley Meyer</cp:lastModifiedBy>
  <dcterms:modified xsi:type="dcterms:W3CDTF">2012-03-07T02:44:17Z</dcterms:modified>
  <cp:revision>1</cp:revision>
  <dc:subject/>
  <dc:title>Seward Park Environmental &amp; Audubon Center </dc:title>
</cp:coreProperties>
</file>